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87739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971880" y="87739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B8243F-680F-4ABB-946B-254299151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1880" y="87742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6E49F8-5CDB-40C8-9722-2422092BE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1880" y="87742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4D5847D-F6B6-44AB-B0CC-ED8102EA8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9B7D-8361-488A-9521-6283FC359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2360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6089-CE11-4BF6-8E96-457AA175D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285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5046-CC2C-4AC9-8062-8642F65E9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012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766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236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012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766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2DEA-1290-464C-A29D-CB8822A12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05DB-0468-452B-9E0C-66CCD299AA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DF0A-38C8-4BF7-8186-90ABCDA8F8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7C89-389A-4E7D-8A86-4DBDCEFABC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E61CB-6310-4987-A1BD-182715EF7C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EA264-C02A-4300-BCE5-B5B5DEBB64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2360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885E0-56B9-4A31-BA44-67DFFA39D0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659A2-A469-4AB8-BEF9-D2E879B263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6A20-35B2-4D43-85E5-38A8448E2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85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1CD0-80BE-4D76-806B-31691DE6D8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67B52-59B1-4C50-BB99-98D9B58365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2360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DE85-16B2-4AF6-B9AF-4A8A901D48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85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44DE-8D85-4208-AF1B-FA7CF587B2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012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766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236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012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766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272C-3837-4D9F-BFE4-16D41F80FB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5CF0-0125-4CDE-BE57-3EC4FADDB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AB43-6BEB-454A-B95D-BDCB60052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E1FB-44F3-43A5-9271-F41943B97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2360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E650-71E6-4C6B-82D0-E1B842FA2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8B3E-CFC8-45B7-B971-D5EDDCE53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285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F8A6-8091-4C18-9D1C-64D080D0E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7A59-EFBF-47C0-AC3F-3E4FA6DB3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o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93396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4606-013A-4840-B3A8-3B4BC8185835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ortada_pr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3"/>
          <p:cNvSpPr/>
          <p:nvPr/>
        </p:nvSpPr>
        <p:spPr>
          <a:xfrm>
            <a:off x="1411200" y="8524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14120" y="638820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13F2-BB43-4BC9-9633-7C5C7C5C6448}" type="slidenum"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53A0-DD58-4E4A-A153-465761B2894D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Módulo IV: Comprensión escrita de textos académicos en inglé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9D71-897F-44BD-8E15-714BA7D50E10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2.1 Palabras similares al español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Gracias a las raíces latinas del español, podemos afirmar que hay un índice más elevado de palabras en común entre el inglés escrito – sobre todo cuando  lo escrito es de tono formal – y el español, que el que hay entre el inglés hablado y el español hablad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0F73-5146-42BA-9617-0FD6850EB2BD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Propósito de estudio de este tema: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Tomar conciencia de las relaciones lingüísticas ya que serán de utilidad cuando leas en inglé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Hacer el aprendizaje del idioma más fácil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Facilitar el aprendizaje de vocabulari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ED37-CA5D-445D-9FCB-7D0297C5C22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Cognados exactos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84000" y="1628640"/>
            <a:ext cx="5859720" cy="388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Hospit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Erro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eutr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Facto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de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Hot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Gener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oc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Radi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8CAF-7159-4D45-B3AE-9BFFC0E9D79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Cognados cercanos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27280" y="1484280"/>
            <a:ext cx="5716800" cy="461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Elega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Mod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Huma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Universit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Move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ilen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Musi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iteratur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76F5-E320-44F2-BEBF-846A92CDDDD6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Cognados Falso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9640" y="1628640"/>
          <a:ext cx="7620120" cy="43308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spañol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glés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rrecto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correcto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ctual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esent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ctual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mpo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ield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mp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testar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 answer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 contest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ariente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lative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arent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ctura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ading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cture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ano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ealthy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ane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1B5D-B536-4C65-BF9F-87726F32649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Impact"/>
              </a:rPr>
              <a:t>2.2 Estructura de la palabr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La Raíz:  es la parte de la palabra cuyo significado no cambia. Prefijos y/o sufijos se añaden a la raíz para formar nuevas palabra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Los Prefijos: son los elementos que preceden a las palabras, y que les añaden significación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83EA-210C-4B0A-A3B2-F734A3FF39AD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Función del Sufijo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3600" y="1700280"/>
            <a:ext cx="7620120" cy="439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odificar la raíz de tal forma que se transforme a una de las siguientes funciones: en un sustantivo, en un verbo, en un adjetivo o en un adverbi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Un ejemplo: la palabra retomar se compone de la raíz 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tom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, el prefijo -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re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, y el sufijo -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ar.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Cada elemento da significado a la palabra. En este caso el añadir el prefijo -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re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a la raíz da el significado de “volver a” y el añadir el sufijo 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ar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da la función de verb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4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A80E-FD48-4D67-819A-CB0910EAC892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cc00"/>
                </a:solidFill>
                <a:latin typeface="Impact"/>
              </a:rPr>
              <a:t>Comparativos de igualdad:</a:t>
            </a:r>
            <a:endParaRPr b="0" lang="en-US" sz="4800" spc="-1" strike="noStrike">
              <a:solidFill>
                <a:srgbClr val="ffcc00"/>
              </a:solidFill>
              <a:latin typeface="Impact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42920" y="1773360"/>
          <a:ext cx="1657440" cy="51732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firmativo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64000" y="1628640"/>
            <a:ext cx="4176720" cy="9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AS + adjective + AS = TAN + adjetivo + COMO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700360" y="206064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1476360" y="3284640"/>
            <a:ext cx="50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1116000" y="2852640"/>
            <a:ext cx="66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468360" y="3068640"/>
            <a:ext cx="8136000" cy="27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This book is as interesting as that magazine.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Este libro es tan interesante como esa revista.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Buenos Aires is as expensive as Tokyo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Buenos Aires es tan cara como Tokio. 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4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1AA8-EEC1-4586-8B43-9DE23E0C2CA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cc00"/>
                </a:solidFill>
                <a:latin typeface="Impact"/>
              </a:rPr>
              <a:t>Comparativos de igualdad:</a:t>
            </a:r>
            <a:endParaRPr b="0" lang="en-US" sz="4800" spc="-1" strike="noStrike">
              <a:solidFill>
                <a:srgbClr val="ffcc00"/>
              </a:solidFill>
              <a:latin typeface="Impact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92360" y="1628640"/>
          <a:ext cx="1657440" cy="57816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gativo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63640" y="1628640"/>
            <a:ext cx="5329080" cy="9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NOT AS + adjective + AS =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NO TAN + adjetivo + COMO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3564000" y="191628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476360" y="3284640"/>
            <a:ext cx="50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1116000" y="2852640"/>
            <a:ext cx="66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468360" y="3068640"/>
            <a:ext cx="8136000" cy="24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This flat is not as big as that house.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Este departamento no es tan grande como esa casa.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Paris is not as expensive as Tokyo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París no es tan cara como Tokio. 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 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4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694E-453C-48ED-8624-7CF728681EAE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Impact"/>
              </a:rPr>
              <a:t>Comparativos de superioridad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3141720"/>
          <a:ext cx="2735280" cy="94464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jetivos hasta 2 sílabas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14920" y="3213000"/>
            <a:ext cx="507816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adjective + ER + THAN =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S + adjetivo + QU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3564000" y="364500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835280" y="4437000"/>
            <a:ext cx="50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1116000" y="2852640"/>
            <a:ext cx="66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611280" y="1700280"/>
            <a:ext cx="8207280" cy="122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Los monosílabos y los bisílabos terminados en sonido vocálico o con acento en la segunda sílaba forman el comparativo añadiendo -er al adjetivo: 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1187280" y="4581360"/>
            <a:ext cx="7345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This book is cheaper than that magazine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Este libro es más barato que esa revista.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7A7D-2729-4B0E-A214-4697C9B39BA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Objetivos Generales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Desarrollar la habilidad lectora de textos en inglés para facilitar los estudios académico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onocer y aplicar estrategias que faciliten los procesos que intervienen en la lectur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Desarrollar un sentido de confianza en sí mism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4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89C0-6E0E-4AAD-B4CF-E8BB0555321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Impact"/>
              </a:rPr>
              <a:t>Comparativos de superioridad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26920" y="3141720"/>
          <a:ext cx="2735280" cy="94464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jetivos de más de 2 sílabas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14920" y="3213000"/>
            <a:ext cx="507816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ORE + adjective + THAN =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ÁS + adjetivo + QU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3564000" y="364500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35280" y="4437000"/>
            <a:ext cx="50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1116000" y="2852640"/>
            <a:ext cx="66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611280" y="1700280"/>
            <a:ext cx="820872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n los polisílabos se antepone more (más) al adjetivo seguido de 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than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que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comparativo):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1187280" y="4581360"/>
            <a:ext cx="7345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Paris is more interesting than Los Angeles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arís es más interesante que Los Angeles.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4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50B1-4EB5-4144-9749-3320B8B597D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Impact"/>
              </a:rPr>
              <a:t>Comparativos de inferioridad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835280" y="4437000"/>
            <a:ext cx="50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116000" y="2852640"/>
            <a:ext cx="66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611280" y="1700280"/>
            <a:ext cx="7921440" cy="41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Se antepone “less” (menos) al adjetivo seguido de”than” (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que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comparativo):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less expensive than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enos caro que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less intelligent than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enos inteligente que. 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4FEF-1C51-486A-8750-30E34825632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Comparativos de superioridad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49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Los monosílabos y bisílabos añaden la terminación -est al adjetivo: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You are the tallest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, eres el más alto; 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Mount Everest is the highest mountain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, el monte Everest es la montaña más alt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Los polisílabos anteponen the most (el más, los más, la más, las más) al adjetivo: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This book is the most expensive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, este libro es el más car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El superlativo de inferioridad se forma añadiendo the least (el menos) al adjetivo: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La Rioja is the least expensive province in Argentina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, La Rioja es la provincia argentina menos car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007A-C523-4F42-93AF-CE076238807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Impact"/>
              </a:rPr>
              <a:t>2.3 El contexto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Otra estrategia más para deducir un significado es el recurrir al contexto del texto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Sin embargo, no hay que olvidar que los textos rara vez se limitan a una sola oración; las ideas de una oración y otra pueden formar parte del significado buscado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B931-8D3C-41EB-80C0-D1FBDA34EF47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Impact"/>
              </a:rPr>
              <a:t>2.4 Predicción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El predecir es un proceso automático cuando se lee en la lengua materna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No necesariamente podemos hacerlo en una lengua extranjera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La práctica te permitirá hacerlo  de manera inconsciente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0321-185A-4F25-A495-E81D6135C346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00"/>
                </a:solidFill>
                <a:latin typeface="Impact"/>
              </a:rPr>
              <a:t>3.1 Puntuación</a:t>
            </a:r>
            <a:r>
              <a:rPr b="0" lang="es-ES" sz="4400" spc="-1" strike="noStrike">
                <a:solidFill>
                  <a:srgbClr val="ffcc00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La puntuación es una herramienta para segmentar y/o estructurar la información dentro de un texto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omo lector, el estar consciente de las funciones que tienen estos signos te servirán para guiar la lectur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CC66-EBAD-4C50-8046-9EB7EB3F920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La coma se usa para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ndicar una serie dentro de una list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dar las partes de una secuenci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mostrar alternativa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dar información gener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eparar una cláusula subordinada de la princip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dentificar algunas partículas de enla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resaltar palabras y frases que expresan la actitud del escritor o indicar frases de tiempo o espaci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78BA-DC37-4DE9-8E6E-38E8F4FA038F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El punto y la coma se usa para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balancear dos ideas (cláusulas), que por lo general se contrastan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separar elementos extensos en una list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E345-F662-463C-BB94-AB0EA7200DD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Dos puntos se usan para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presentar una lista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presentar información que extiende una idea previa,  ya sea complementándola o haciendo explícita una implicación existent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049B-A11F-40E6-A642-41646ABA0D3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El Guión indica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un comentario adicional o recapacitación del auto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para que dos o más palabras sean tomadas como una unidad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para dividir una palabra al final de una líne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2EEE-03C3-483B-9467-BB6EBA14CD8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lementos interventores de la lectura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l lecto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l texto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l objetivo / meta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Las estrategia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C1A0-0787-4D59-87DE-F92FDECA9AD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Impact"/>
              </a:rPr>
              <a:t>El Paréntesis indica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información genera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una explicación no técnica de un término técnico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un término técnico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hacer más explícita o ejemplificar una idea anterior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B19D-9F13-4D97-AAA3-58F43E9F7DA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Impact"/>
              </a:rPr>
              <a:t>Las comillas se usan par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citar o indicar un título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indicar un término extranjero o técnico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indicar que una palabra o frase está siendo usada fuera de su contexto normal, o con un significado especial o desconocido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777A-154C-4118-9A57-E7E740DBD97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Impact"/>
              </a:rPr>
              <a:t>3.2 Los Nexo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e usan para unir las oracion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Dan cierta organización lógic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Guían al lector a lo largo del text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on generalmente conjunciones, pero suelen ser preposiciones o adverbi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Al igual que en español, la elección de un nexo (siendo del mismo grupo) es de tipo estilist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o tienen ni género ni númer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4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BC97-F0B3-498F-AE0D-1B7C3AB210C2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l proceso de lectur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3960" y="1980720"/>
            <a:ext cx="7664400" cy="87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ee rápidamente cada texto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11280" y="2997360"/>
          <a:ext cx="3417840" cy="1592280"/>
        </p:xfrm>
        <a:graphic>
          <a:graphicData uri="http://schemas.openxmlformats.org/drawingml/2006/table">
            <a:tbl>
              <a:tblPr/>
              <a:tblGrid>
                <a:gridCol w="3417840"/>
              </a:tblGrid>
              <a:tr h="15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 deja de 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 ver el bosque por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r ver los árboles.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788000" y="2997360"/>
          <a:ext cx="3417840" cy="1663560"/>
        </p:xfrm>
        <a:graphic>
          <a:graphicData uri="http://schemas.openxmlformats.org/drawingml/2006/table">
            <a:tbl>
              <a:tblPr/>
              <a:tblGrid>
                <a:gridCol w="3417840"/>
              </a:tblGrid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You cannot see the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he woods because of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f the trees.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949D-6560-4F42-8F2A-E12D228FE580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l proceso de lectur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ada texto tiene un par de error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o más probable es que notaste los errores del texto en inglé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uando lees en inglés, tus ojos probablemente se mueven de la siguiente maner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..the major additions to the original buildings ….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332000" y="4653000"/>
            <a:ext cx="792000" cy="431640"/>
          </a:xfrm>
          <a:custGeom>
            <a:avLst/>
            <a:gdLst>
              <a:gd name="textAreaLeft" fmla="*/ 115920 w 792000"/>
              <a:gd name="textAreaRight" fmla="*/ 676080 w 792000"/>
              <a:gd name="textAreaTop" fmla="*/ 63000 h 431640"/>
              <a:gd name="textAreaBottom" fmla="*/ 36864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2411280" y="4653000"/>
            <a:ext cx="792360" cy="431640"/>
          </a:xfrm>
          <a:custGeom>
            <a:avLst/>
            <a:gdLst>
              <a:gd name="textAreaLeft" fmla="*/ 115920 w 792360"/>
              <a:gd name="textAreaRight" fmla="*/ 676440 w 792360"/>
              <a:gd name="textAreaTop" fmla="*/ 63000 h 431640"/>
              <a:gd name="textAreaBottom" fmla="*/ 36864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3490920" y="4653000"/>
            <a:ext cx="792000" cy="431640"/>
          </a:xfrm>
          <a:custGeom>
            <a:avLst/>
            <a:gdLst>
              <a:gd name="textAreaLeft" fmla="*/ 115920 w 792000"/>
              <a:gd name="textAreaRight" fmla="*/ 676080 w 792000"/>
              <a:gd name="textAreaTop" fmla="*/ 63000 h 431640"/>
              <a:gd name="textAreaBottom" fmla="*/ 36864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4570560" y="4653000"/>
            <a:ext cx="792000" cy="431640"/>
          </a:xfrm>
          <a:custGeom>
            <a:avLst/>
            <a:gdLst>
              <a:gd name="textAreaLeft" fmla="*/ 115920 w 792000"/>
              <a:gd name="textAreaRight" fmla="*/ 676080 w 792000"/>
              <a:gd name="textAreaTop" fmla="*/ 63000 h 431640"/>
              <a:gd name="textAreaBottom" fmla="*/ 36864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5649840" y="4653000"/>
            <a:ext cx="792360" cy="431640"/>
          </a:xfrm>
          <a:custGeom>
            <a:avLst/>
            <a:gdLst>
              <a:gd name="textAreaLeft" fmla="*/ 115920 w 792360"/>
              <a:gd name="textAreaRight" fmla="*/ 676440 w 792360"/>
              <a:gd name="textAreaTop" fmla="*/ 63000 h 431640"/>
              <a:gd name="textAreaBottom" fmla="*/ 36864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53D7-EBB7-48C6-8763-7289B1EAE52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l proceso de lectur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420040" cy="42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ada flecha representa una pausa en el movimiento de tus ojo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ada pausa toma tiemp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Un lector cuya lengua materna sea el inglés, lee el mismo texto así: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..the major additions to the original buildings ….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1476360" y="4508640"/>
            <a:ext cx="1728720" cy="792000"/>
          </a:xfrm>
          <a:custGeom>
            <a:avLst/>
            <a:gdLst>
              <a:gd name="textAreaLeft" fmla="*/ 253080 w 1728720"/>
              <a:gd name="textAreaRight" fmla="*/ 1475640 w 1728720"/>
              <a:gd name="textAreaTop" fmla="*/ 115920 h 792000"/>
              <a:gd name="textAreaBottom" fmla="*/ 67608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4" name="AutoShape 11"/>
          <p:cNvSpPr/>
          <p:nvPr/>
        </p:nvSpPr>
        <p:spPr>
          <a:xfrm rot="21469800">
            <a:off x="3708000" y="4292280"/>
            <a:ext cx="3600360" cy="1009440"/>
          </a:xfrm>
          <a:custGeom>
            <a:avLst/>
            <a:gdLst>
              <a:gd name="textAreaLeft" fmla="*/ 527040 w 3600360"/>
              <a:gd name="textAreaRight" fmla="*/ 3073320 w 3600360"/>
              <a:gd name="textAreaTop" fmla="*/ 147600 h 1009440"/>
              <a:gd name="textAreaBottom" fmla="*/ 861840 h 1009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3260-8605-4182-8573-ED6E8A3BD04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l proceso de lectur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ste lector se centra en menos palabras que tú, y aún así él está leyendo con más comprensión porque centra su atención en aquellas palabra con mayor significado en la ide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1DB6-AE58-488E-AA07-3A3B99CFF3E7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4.1 Hojear y Rastear (skim and scan)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Naturalmente hay textos que deben leerse en detalle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Los estudiantes de una lengua extranjera suelen insistir en leer todo, palabra por palabr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La lectura en detalle casi nunca es desde un enfoque de “palabra por palabra”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EBEC-E064-4DEA-93A8-24EADA4D91E5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Circunstancias en que aplica el hojear un texto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Ver qué esta disponible (ejemplo: en un menú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Descubrir si un texto será interesante o úti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erciorarse de la idea o de la actitud general del autor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Determinar dónde empezar a buscar información específica (preludio a rastrear información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23C9-2ABD-476C-9971-A051F96D528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4.2 Identificar idea principal y secundaria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Una idea principal encierra los datos precisos y concretos que expresa una afirmación amplia en la que quedan incluidas y resumidas las demás frase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Es una frase abstracta (que generaliza) y de mayor comprens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Es imprescindible en el texto para que tenga sentido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FCF7-E297-45D8-A5A0-1B555624D84F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lementos interventores  en el lector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xperiencias previa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onocimientos previo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Habilidades para lee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Motivació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Interés en el tema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Factores físicos (hambriento o soñoliento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8E79-CB0A-47CA-9E0D-72FD8479CA0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Las ideas principale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Un texto es conocimiento estructurado. 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Para entender dicho conocimiento debes reconocer dicha estructura primero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A4F5-537D-4E81-8C37-46AD43F8FD9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Las ideas principale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generalmente tienen una relación lógica, fácil de entender y recordar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definen un "esqueleto" conceptual donde podrá ubicar después los detalles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219D-F953-4767-AFD9-3722107C271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Las ideas secundaria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Son menos importante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Dan detalles, argumentos, más ideas en relación a la idea principal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Si se suprimen las ideas secundarias, el  texto tiene sentido pero perdemos los detalles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9E89-4598-4103-B76C-04E0D298F84D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Método “SQ3R”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050560" y="1981080"/>
            <a:ext cx="6293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Survey = Explora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Question = Pregunta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ad = Lee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cite = Recita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view = Repasa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3BBA-79B6-456C-B397-FA33829DE84F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5. Recomendacione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regúntate constantemente qué es lo que está tratando de decir el autor, en una actitud mental similar a la que tendrías si estuvieras conversando con él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No te fijes en los detalles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ncéntrate en las ideas principales y descubrirás que recordar los detalles resulta más fácil.  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EDE5-592F-4E55-88CD-8A1160E1402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3600" y="915480"/>
            <a:ext cx="7543800" cy="179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Impact"/>
              </a:rPr>
              <a:t>D. R.  Septiembre 2007</a:t>
            </a:r>
            <a:br>
              <a:rPr sz="3600"/>
            </a:br>
            <a:r>
              <a:rPr b="0" lang="es-MX" sz="3600" spc="-1" strike="noStrike">
                <a:solidFill>
                  <a:srgbClr val="ffcc00"/>
                </a:solidFill>
                <a:latin typeface="Impact"/>
              </a:rPr>
              <a:t>Monterrey, Nuevo León; México.</a:t>
            </a: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3600" y="3789000"/>
            <a:ext cx="7620120" cy="230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scuela de Graduados en Educació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Universidad Virtua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Tecnológico de Monterre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7DDD-E010-47F6-837B-015978FD063E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Impact"/>
              </a:rPr>
              <a:t>1.1 </a:t>
            </a:r>
            <a:r>
              <a:rPr b="1" lang="es-MX" sz="4000" spc="-1" strike="noStrike">
                <a:solidFill>
                  <a:srgbClr val="ffcc00"/>
                </a:solidFill>
                <a:latin typeface="Impact"/>
              </a:rPr>
              <a:t>Conociendo mi estilo de aprendizaje</a:t>
            </a:r>
            <a:r>
              <a:rPr b="0" lang="es-ES" sz="4000" spc="-1" strike="noStrike">
                <a:solidFill>
                  <a:srgbClr val="ffcc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strategias de aprendizaje son aquellas acciones que permiten que un aprendizaje sea más sencillo, rápido, divertido, auto-dirigido, efectivo y transferible a otras situaciones.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  (Oxford, 1990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1570-898B-4547-80B5-F4E528FE024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scala para responder inventario de estrategías de aprendizaje de un idioma extranjero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3600" y="2276280"/>
            <a:ext cx="7620120" cy="38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unca o casi nunca lo hago: rara vez cierto para mí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Usualmente no lo hago: es cierto en un porcentaje menor a 50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Algunas veces lo hago: 50% de las ve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Usualmente lo hago: Mas del 50%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iempre o casi siempre lo hago: es cierto para casi todas las ve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0904-21E8-4BA2-99BE-7E909FF75D55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Instrucciones para resultado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scribir su respuesta (1, 2, 3, 4, o 5) en la tabl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Sumar los puntos de cada columna (cada sección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Dividir la suma de la sección entre el número de preguntas de dicha secc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Hacer el promedio total (suma de todas las respuestas dividido entre 50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6D8E-31C3-4985-9BFF-ED04E86944FE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3600" y="1197000"/>
            <a:ext cx="7620120" cy="48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l mejor uso de estrategia depende de tu edad, personalidad, y propósito del aprendizaje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Si tienes un puntaje bajo en una o varias de las secciones, podrías intentar emplear más estas estrategia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07D5-A249-489F-B75D-DC92D8E1A7B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c00"/>
                </a:solidFill>
                <a:latin typeface="Impact"/>
              </a:rPr>
              <a:t>1.2 Conociendo y evaluando el propósito de mi lectura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a lectura de textos académicos en inglés es una experiencia nueva para much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Debes centrar tu lectura en aspectos del texto, hechos, lo “fácilmente visible”; parte de tu conocimiento previ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ntinua leyendo, termina la lectura, resúmela, y relaciona la información nueva con tu conocimiento previ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o permitas que tus experiencias negativas interfieran con esta meta que te has fijad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9:20:41Z</dcterms:created>
  <dc:creator>Perla Jtt. Sánchez Reyna</dc:creator>
  <dc:description/>
  <dc:language>en-US</dc:language>
  <cp:lastModifiedBy>Equipo1</cp:lastModifiedBy>
  <dcterms:modified xsi:type="dcterms:W3CDTF">2011-03-15T16:31:55Z</dcterms:modified>
  <cp:revision>143</cp:revision>
  <dc:subject>Lic. Cesar Davis Moncada</dc:subject>
  <dc:title>PAH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PublishingExpirationDate">
    <vt:lpwstr/>
  </property>
  <property fmtid="{D5CDD505-2E9C-101B-9397-08002B2CF9AE}" pid="4" name="PublishingStartDate">
    <vt:lpwstr/>
  </property>
  <property fmtid="{D5CDD505-2E9C-101B-9397-08002B2CF9AE}" pid="5" name="SPSDescription">
    <vt:lpwstr>Documento de PPT, Módulo V comprension de textos en inglés.</vt:lpwstr>
  </property>
  <property fmtid="{D5CDD505-2E9C-101B-9397-08002B2CF9AE}" pid="6" name="Status">
    <vt:lpwstr/>
  </property>
</Properties>
</file>